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5F1-5029-47D1-BDA6-588DBCAD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BF8-CAD4-4306-ADC0-4A6DBB6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44E-B996-4930-AA7F-56E41887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790-6C86-4A14-9C70-0BF65CFE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B35-AE87-49A1-8E58-7786815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30A-57E0-4841-94ED-21E9D0C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10B-21E3-4538-9358-00D77797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B32-3C0D-4C5D-94E2-3567978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5EB-BBD5-4A66-B565-2B64BF5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66D-4ABC-4A6F-8C4F-F3500D8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982-53C8-44C2-9697-C51C5AB9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B96-1E29-47C0-9FF5-4D5E5E5D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947-933C-4F23-9A2F-A7E0E5EA3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ystem of signs and maps (placement, ori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Direction-Giv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ript for all current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Signs themselves</a:t>
            </a:r>
            <a:r>
              <a:rPr b="0" lang="en-US" sz="2200" spc="-1" strike="noStrike">
                <a:solidFill>
                  <a:srgbClr val="009999"/>
                </a:solidFill>
                <a:latin typeface="Century Gothic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(one sign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46996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649160" cy="109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867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2590920" cy="12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lace to Place Direction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ace could be layered by complexity (viewing options based on cognitive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hortest path algorithm i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 as a storyboard if unable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/plastic map or mock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tentially lay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controls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Map form of user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uld be printed from Place to Pla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lor coordination or thematic element between hospital an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792468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Diane Dutcher</cp:lastModifiedBy>
  <dcterms:modified xsi:type="dcterms:W3CDTF">2007-10-25T02:42:57Z</dcterms:modified>
  <cp:revision>10</cp:revision>
  <dc:subject/>
  <dc:title>Step-by-Step a way-finding design team</dc:title>
</cp:coreProperties>
</file>